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D78-5DF7-48BC-B316-A407BDCD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4C0-974D-4E01-BFA9-45A03E40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208-A6D0-4170-A1D3-69DF2B0E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C51-531E-44BC-AB86-653CE7AE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CAE26-79C6-41BE-888A-A755778E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A63EA-4DDF-4176-B0BE-DB9A2263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01EA6-6B08-4413-9B8C-403E523E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B065A-A4DC-4317-BD27-43B380E2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18889-AEF6-4EAE-8BCA-BFC74F38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5C849-9D7B-4794-B795-CD6A0529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68234-A040-4219-8235-C93E634B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8DC-CE9C-474D-B2E0-EC0F47B8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599B1-C8C0-428E-8941-83ABF92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8B8E3-9D8E-4AFD-B908-9AB5F26C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8AE0A-A6AD-4635-B7D8-2A6E8389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F0C2-0EA6-4443-AEB0-0401FD0E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650A0-8BDB-4693-A3E5-CE3BFB50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3F3-1BA8-49EF-8250-50E2C448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607-CDAA-47F1-8DA4-7DED2816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ADE-3060-4DEA-9B02-1A54A43E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C66-2DFB-4751-AF1F-6749D525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739-9645-4D8B-A76E-0C2C8BEA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397-E900-42F9-B956-07253F7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3A9-FC16-445F-8C0A-C5B9D919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46DF-D572-4748-8F80-3FA2DA557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E05A-BF42-4D28-8A7B-D6A0DFABC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lf-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4920" y="6278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ss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f-contro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bility to control your behavior regardless of what you are thinking or feel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BEHAVIOR CHECKLIST SCOR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ss than 10= high self-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1 &amp; 15= self-control is lacking at ti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6 &amp; 20= self-control needs 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21 &amp; 30= self-control needs A LOT of wor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920" y="22860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siv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 standing up for what you w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gressiv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shy and offens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ssertiv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ear and confid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- say something about the person with whom you are speaking; compliment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 say something about how you feel about the situation; use an “I” 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- say what you want them to do in the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438280" y="304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057400" y="457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TEMENTS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7:47Z</dcterms:modified>
  <cp:revision>18</cp:revision>
  <dc:subject/>
  <dc:title>Project TND  (Project Towards No Drug Abuse)</dc:title>
</cp:coreProperties>
</file>